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6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7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5.png" ContentType="image/png"/>
  <Override PartName="/ppt/media/image10.jpeg" ContentType="image/jpeg"/>
  <Override PartName="/ppt/media/image30.jpeg" ContentType="image/jpeg"/>
  <Override PartName="/ppt/media/image3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00C-4DAC-497D-A132-E1C470AC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2DF1-C578-4FF4-A8F2-58770BA0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126-92BA-47E6-B7D8-A53B8D0A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2A8-62A2-40FA-912F-EF8C359A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DEF2-FE59-4682-B009-8BEDC60E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145-705E-4767-A864-8EA5794B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6E6-CDAE-46A5-84F3-DF5F1161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2FCB-3B4D-4DF3-9A6A-F5AA03F8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864-09E5-4FE2-A6BC-F1B9C5C0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4EC-3A6B-4ABF-B769-0D3E14A4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FFD-4103-485F-9189-62D0F0C2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795-A4A5-433E-A059-E857D372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E65C-46DF-431E-AEED-A929C36FF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82800" y="2571840"/>
            <a:ext cx="22320" cy="3905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640800" y="7112160"/>
            <a:ext cx="520920" cy="507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8800" y="3723840"/>
            <a:ext cx="6502320" cy="4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Google Do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98800" y="4282560"/>
            <a:ext cx="650232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d7d7d"/>
                </a:solidFill>
                <a:latin typeface="Arial"/>
              </a:rPr>
              <a:t>An Overview for Edu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52320" y="3759120"/>
            <a:ext cx="1901880" cy="768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383160" y="6670800"/>
            <a:ext cx="36752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Writing for an authentic audienc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0960" y="6000840"/>
            <a:ext cx="8658000" cy="1206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25480" y="6076800"/>
            <a:ext cx="85089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Publish a document to make it visible to an authentic audience: parents, peers, and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You can even publish directly to your blo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79600" y="1417680"/>
            <a:ext cx="914544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82800" y="2571840"/>
            <a:ext cx="2232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98800" y="3200400"/>
            <a:ext cx="65023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Not just documents…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Spreadsheets and presentations,</a:t>
            </a:r>
            <a:br>
              <a:rPr sz="3300"/>
            </a:b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too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Online spreadshee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6800" y="1722600"/>
            <a:ext cx="89964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Spreadsheet forms simplify data colle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4200" y="6338880"/>
            <a:ext cx="8567640" cy="1041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98480" y="6411960"/>
            <a:ext cx="845352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Create a survey or poll in a few easy step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Your respondents’ data appears in your spreadsheet as they fill it o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17480" y="1160640"/>
            <a:ext cx="4232520" cy="4987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719680" y="2035080"/>
            <a:ext cx="4029120" cy="3490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89680" y="3138480"/>
            <a:ext cx="500040" cy="814320"/>
          </a:xfrm>
          <a:custGeom>
            <a:avLst/>
            <a:gdLst/>
            <a:ahLst/>
            <a:rect l="l" t="t" r="r" b="b"/>
            <a:pathLst>
              <a:path w="21600" h="22715">
                <a:moveTo>
                  <a:pt x="0" y="6165"/>
                </a:moveTo>
                <a:lnTo>
                  <a:pt x="10427" y="6165"/>
                </a:lnTo>
                <a:cubicBezTo>
                  <a:pt x="10427" y="6165"/>
                  <a:pt x="10412" y="1031"/>
                  <a:pt x="10427" y="985"/>
                </a:cubicBezTo>
                <a:cubicBezTo>
                  <a:pt x="10427" y="0"/>
                  <a:pt x="11410" y="995"/>
                  <a:pt x="11410" y="995"/>
                </a:cubicBezTo>
                <a:lnTo>
                  <a:pt x="21600" y="11345"/>
                </a:lnTo>
                <a:cubicBezTo>
                  <a:pt x="21600" y="11345"/>
                  <a:pt x="11413" y="21669"/>
                  <a:pt x="11413" y="21691"/>
                </a:cubicBezTo>
                <a:cubicBezTo>
                  <a:pt x="10263" y="22715"/>
                  <a:pt x="10427" y="21705"/>
                  <a:pt x="10427" y="21705"/>
                </a:cubicBezTo>
                <a:lnTo>
                  <a:pt x="10427" y="16526"/>
                </a:lnTo>
                <a:lnTo>
                  <a:pt x="0" y="16526"/>
                </a:lnTo>
                <a:lnTo>
                  <a:pt x="0" y="6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Online presentati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0960" y="5978520"/>
            <a:ext cx="8658000" cy="1197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5480" y="6053040"/>
            <a:ext cx="85089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You can import existing PowerPoint presentations or create new ones from scr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Insert images and videos, and format your slides to fit your prefere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Publish and embed your presentations in a website, allowing access to a wide audi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5320" y="1335240"/>
            <a:ext cx="64357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Students can chat while others are present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0960" y="6286680"/>
            <a:ext cx="8658000" cy="119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5480" y="6357960"/>
            <a:ext cx="8508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One student talked aloud while everyone listened and chatted about the presentation… For the first time I can EVER remember as a teacher - 100% of the students were engaged in the presentation and participated in the chat. The students were enthusiastic and offered insightful and appropriate comments.“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        </a:t>
            </a: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- Computer Applications teacher, Beaverton, 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36840" y="1270080"/>
            <a:ext cx="671328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Example Exercis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192560" y="1404720"/>
            <a:ext cx="524520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c3c3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Journal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Essays (individual or co-edited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Collaborative research papers (history, geography, scienc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Collaborative book repo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Creative writing (script writing, poetry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Writing portfoli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c3c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Spread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Stock portfolio (live 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Graphs, charts, and data presentation techniqu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c3c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Presenting group resear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Active student participation during a present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03320" y="1390680"/>
            <a:ext cx="2232000" cy="1644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84240" y="5389560"/>
            <a:ext cx="2270160" cy="1746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003320" y="3325680"/>
            <a:ext cx="225108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Makes planning and admin tasks easi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71480" y="6624720"/>
            <a:ext cx="8605800" cy="752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47800" y="6702480"/>
            <a:ext cx="84628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Teachers create and share lesson plans, meeting notes, and contact information in Google Do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7240" y="1316160"/>
            <a:ext cx="5667480" cy="4730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638520" y="2395440"/>
            <a:ext cx="5403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502920" y="3095640"/>
            <a:ext cx="9110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Visit the </a:t>
            </a:r>
            <a:r>
              <a:rPr b="0" lang="en-US" sz="3300" spc="-1" strike="noStrike" u="sng">
                <a:solidFill>
                  <a:srgbClr val="ccccff"/>
                </a:solidFill>
                <a:uFillTx/>
                <a:latin typeface="Arial"/>
              </a:rPr>
              <a:t>Google Docs pag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on the </a:t>
            </a:r>
            <a:r>
              <a:rPr b="0" lang="en-US" sz="3300" spc="-1" strike="noStrike" u="sng">
                <a:solidFill>
                  <a:srgbClr val="ccccff"/>
                </a:solidFill>
                <a:uFillTx/>
                <a:latin typeface="Arial"/>
              </a:rPr>
              <a:t>Google for Educators si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to get other Google Docs resource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</a:rPr>
              <a:t>http://www.google.com/educato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97440" y="422280"/>
            <a:ext cx="1992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Google Doc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073920"/>
            <a:ext cx="8636040" cy="1060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3400" y="6151680"/>
            <a:ext cx="84931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Google Docs</a:t>
            </a: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 is a free, web-based word processor, spreadsheet and presentation tool that allows you to </a:t>
            </a: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create and edit documents from anywhere and collaborate with multiple people at the same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5120" y="1104840"/>
            <a:ext cx="63500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Anywhere access &amp; collabor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9280" y="5407200"/>
            <a:ext cx="8721720" cy="1958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08200" y="5573880"/>
            <a:ext cx="85820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Google Docs is differ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Documents are saved online and can be accessed from any computer with an Internet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Collaboration: Multiple people can work together on the same document. No need to email documents back and f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69920" y="1224000"/>
            <a:ext cx="4610160" cy="367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370320" y="1841400"/>
            <a:ext cx="4767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82800" y="2571840"/>
            <a:ext cx="22320" cy="3905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98800" y="3266640"/>
            <a:ext cx="65023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How Google Docs helps educators and stud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Access documents from anywher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17480" y="5094360"/>
            <a:ext cx="8721720" cy="1960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43040" y="5251320"/>
            <a:ext cx="85834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tudents can work from both school and home since documents are stored securely on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All you need is browser and internet connection, no software version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No more “I forgot my work” exc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24240" y="1933560"/>
            <a:ext cx="327672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Saves changes automatical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8120" y="5103720"/>
            <a:ext cx="8751960" cy="2282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73080" y="5297400"/>
            <a:ext cx="82519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Google Docs saves automatically, on a regular basis. Each change is tracked as a new revision. You can see exactly what’s been revised, by whom, and w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3800" y="1427040"/>
            <a:ext cx="9145800" cy="3370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66760" y="6237360"/>
            <a:ext cx="7548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Teachers are able to individually assess student participation and content using the revision tab on Google Docs to see how editing is proceeding and to encourage students as they work.”         - Technology coordinator, Lafayette, 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c3c3c"/>
                </a:solidFill>
                <a:latin typeface="Arial"/>
              </a:rPr>
              <a:t>Collaboration gets students excited and engag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6035760"/>
            <a:ext cx="8636040" cy="1392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44560" y="6154560"/>
            <a:ext cx="8348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tudents love it, no more coaxing kids to do their writing assignments. They beg to go to the computer lab to work on a collaborative assignment with their partner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- High School Journalism teacher, Palo Alto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68560" y="1270080"/>
            <a:ext cx="78930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Add collaborators to docum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0080" y="5724360"/>
            <a:ext cx="8699760" cy="1758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74600" y="5915160"/>
            <a:ext cx="8031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After students invite you to their documen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Arial"/>
              </a:rPr>
              <a:t>you can review, comment, and grade their work at any ti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Arial"/>
              </a:rPr>
              <a:t>it's hard for students to tell fibs when you can see their work at all tim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Also, students can work together on projects and get peer feedbac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6800" y="1676520"/>
            <a:ext cx="91458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Folders organize your students’ work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71480" y="6153120"/>
            <a:ext cx="8588520" cy="123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9880" y="6226200"/>
            <a:ext cx="84801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Folders keep student work organ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tandard naming schemes allow you to sort by “Name” to easily find a class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6320" y="1316160"/>
            <a:ext cx="79344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